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1A9-D772-46F2-99B6-12582CF7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E0E-B2B3-44D3-92DD-66FBD72C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4F6-0E1C-455E-97D5-A49063CF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87F-51EE-4C99-BEDC-73E76CF7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5135-F391-4217-B13C-AE5AF929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0711-0057-40F8-9926-B26D3175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8788-EFFE-4646-8002-8FE2CD0D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00CC-C457-49AA-B4C7-8B772AA4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7717-123F-4683-93C8-9FD19970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A450-F3AF-4F1C-81DB-CA11B6FE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209-AB79-4D27-AAC5-3523EF8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F0E-D0D8-417B-BB22-5B658796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FA7B-062B-412C-9983-94A191CE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27BE-2B77-4315-A28C-A30FAA0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FA83-FA63-4F6D-AE9C-8777DA84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1B56-B8A2-495D-B5D9-758DF290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4F78-F2DA-42D6-9CA3-F3B1492E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ADD-DC4D-4448-A756-65441CFA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9FD-6467-4094-B959-D8E40F51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D13-52A6-4F12-841D-4808052A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568-A343-4B7A-9A98-A73E8E9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127-B5A2-430C-BD64-C856BE05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C65-3F8C-4B33-942F-C60B7C1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A4C-E043-41AB-97E6-62DE9331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08A1-4F50-4090-AE35-2475BEDEFFFA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43F8-D759-4FAE-9EFE-257B756857CA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Профессиональный стандарт педагогической деятельности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49440" y="3905280"/>
            <a:ext cx="604512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Требования к учителю и к педагогическому образованию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898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4. Информационная компетентность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1. Компетентность в предмете преподавани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2. Компетентность в методах преподавани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3. Компетентность в субъективных условиях деятельности (знание учеников и учебных коллективов)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4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Умение вести самостоятельный поиск информации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5. Разработка программ педагогической деятельности и принятие педагогических решений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5.1. Умение разрабатывать образовательную программу, выбирать учебники и учебные комплекты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5.2. Умение принимать решение в различных педагогических ситуациях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2800"/>
            </a:b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2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6. Компетенции в организации учебной деятельности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1. Компетентность в установлении субъект-субъектных отношений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2. </a:t>
            </a:r>
            <a:r>
              <a:rPr b="0" i="1" lang="en-US" sz="2400" spc="-1" strike="noStrike">
                <a:solidFill>
                  <a:srgbClr val="99ffff"/>
                </a:solidFill>
                <a:latin typeface="Times New Roman"/>
              </a:rPr>
              <a:t>Компетентность в обеспечении понимания педагогической задачи и способах деятельност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3. Компетентность в педагогическом оценивани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4. Компетентность в организации информационной основы деятельности обучающегося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5. Компетентность в использовании СОТ и систем организации УВП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6. Компетентность в способах умственной деятельност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Деятельность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человеческая форма активности, выражающаяся в целенаправленном преобразовании им природной и социальной действи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Педагогическая деятельность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один из видов деятельности, выражающийся в целенаправленном развитии обучающегося, овладении им основами культуры, всестороннем развитии его способностей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Педагогическая деятельность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предполагает субъект – субъектные отношения в процессе деятельности. Педагог и обучаемый выступают как равнозначные субъекты педагогического процесса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Профессиональный стандарт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– система требований к работнику, определяющая возможность занять определенную должность, быть допущенным к определенной деятельности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Компетенции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круг вопросов, в которых кто-нибудь хорошо осведомлен, круг чьих-нибудь полномочий, прав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Компетентность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новообразование субъекта деятельности, формирующееся в процессе профессиональной подготовки, представляющее собой системное проявление знаний, умений, способностей и личностных качеств, позволяющих успешно решать функциональные задачи, составляющие сущность профессиональной деятельности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Профессиональный стандарт педагогической деятельности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система требований к качествам (компетентности) субъекта деятельности, которые в своей целостности определяют возможность занятия конкретной должности и определяют успех в педагогическ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Стандарт педагогической деятельности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Arial"/>
              </a:rPr>
              <a:t>Разработана модель профессионального стандарта с позиции функциональной системы деятельности </a:t>
            </a:r>
            <a:r>
              <a:rPr b="0" i="1" lang="en-US" sz="2800" spc="-1" strike="noStrike">
                <a:solidFill>
                  <a:srgbClr val="99ffff"/>
                </a:solidFill>
                <a:latin typeface="Arial"/>
              </a:rPr>
              <a:t>(«Вестник образования №7 2007 г.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2800"/>
            </a:b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2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1. Личностные качества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1. Вера в силы и возможности обучающихс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2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Интерес к внутреннему миру обучающихс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3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Открытость к принятию других позиций, точек зрени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4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Общая культура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5. Эмоциональная устойчивость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6. Позитивная направленность на педагогическую деятельность. Уверенность в себе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2. Постановка целей и задач педагогическ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2.1. Умение перевести тему урока в педагогическую задачу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2.2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Умение ставить педагогические цели и задачи сообразно возрастным и индивидуальным особенностям обучающихс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3. Мотивация учебн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1. Умение обеспечить успех в деятельности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2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Компетентность в педагогическом оценивании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3. Умение превращать учебную задачу в личностно-значимую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7:02:31Z</dcterms:created>
  <dc:creator>1</dc:creator>
  <dc:description/>
  <dc:language>en-US</dc:language>
  <cp:lastModifiedBy>User</cp:lastModifiedBy>
  <dcterms:modified xsi:type="dcterms:W3CDTF">2007-10-23T08:07:48Z</dcterms:modified>
  <cp:revision>10</cp:revision>
  <dc:subject/>
  <dc:title>Профессиональный стандарт педагогической деятельности</dc:title>
</cp:coreProperties>
</file>